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F9DB-9348-4756-9B27-35D43174D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A068-3419-4B46-9352-B39D8808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1F8F-D5B7-41F7-8C81-7F5B8E09B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CC17-FCC5-4B1B-AA9D-DE06D2ABA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8F7E-E81C-49D8-BB61-CC6690B09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8B9E-1A1D-4042-A71B-F3ACEF25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C69F-E200-4769-8D19-30255C5D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D241-3AB6-4512-880D-F91583F5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64B6-23BA-4847-A7A9-6852A24F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B96D-9E09-49AD-A789-39EBBB69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1AC7-D0F2-4D22-8923-A025D387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701F-485A-490D-8A33-AB37EA99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8DD7-E818-43BC-A5EC-42D74C03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1E43-3A7C-4739-ABF8-5D5C0E6C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F2C2-1F24-4832-8DAA-27965B90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EEE6-EF32-4466-A532-6B1ABDA2C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014E-A29F-4F07-A642-DE151524F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32FCA-63D2-4548-9951-48092D312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F14BD-65C8-4CDD-9581-9E08E7AF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83D2B-D105-4214-B983-1ECC39B2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C306F-8BA4-45CD-A958-72B3450F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8ACFB-A3F4-4DC6-922D-0B88581B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66C4-168F-4376-8152-9360BF7B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75147-EED3-46B0-A741-C0AB0207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0495F-B59D-4CC5-8094-7556607F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2ADEA-E6FC-4B13-9C42-1CE49E0F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A9669-75CE-44A8-9775-4B71B11E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363EC-95E0-4E1A-A082-11975146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7764A-64B5-4F22-96EB-974FCEF59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374E8-F1E6-4531-8DDD-AA44E24DF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BCED5-7000-41D6-B9FA-56C37A8C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84CE7-81B9-4F5B-9612-2518F9D5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B56A7-36E8-4F4D-AD00-35656A47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8DAD-5E7A-43B4-A3EC-4B2EC533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AC6EF-5EF6-488D-9841-9427962A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36655-0240-42C0-A189-4962C8E6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02C38-C157-4126-90C3-FAFBEC55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AC360-5709-48AF-B242-17CB67A8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A6FF0-A100-48D4-A688-7ACE819B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3A952-E560-43E1-87A3-D1E9DDF0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D6FE8-55C6-45FD-AC8C-613D86C2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57773-67E5-437F-B63A-31583B575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90E24-200D-4870-BA54-158C40A71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28F78-821A-4A48-B2A7-9E47EBF1E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190B-7454-4085-BF29-717F7796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D61A9-6847-4CB4-B9A1-4EC76579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5CB91-63D5-4323-B67E-62D6A163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ECBCE-E1AC-48E8-B07B-49EDBD09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54D8A-B420-40AA-85A4-91BCBE5A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79E32-3AA5-4603-A246-2D2E2254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22673-5746-4CCF-8EE8-458D4A70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A9E87-B24D-4FD2-89DA-DBFD308A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08EC9-8059-4208-AD4A-C5700A26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BC061-2BAE-4541-8CAB-68C70C14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B5857-6066-4CCF-A4F4-67A29A0A4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9F2A-E770-44EA-9B45-15322275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78500-F886-423A-8E92-1B3C3D065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ECD73-614B-4C92-BD64-C61878985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529C6-74E4-4CC8-B495-9E15AC5D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D736A-89DE-4FA6-9EBB-366423A6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CF45F-0CD4-4CD7-9333-D8D9E3F7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1E4C8-9CCB-4AF0-BCDC-79849A65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5A470-130D-405F-B3CE-0F0B48F2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57D10-AEF5-4A2E-8612-E629A3AD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6D7EC-0EF2-477E-B9B0-869C177F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19ABA-81BF-4556-BCE4-7963B683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0515-1EC9-4FB4-896B-0B807939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97543-C997-4C67-BDB5-440E50EE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E8122-3827-49E3-8046-0B676C084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695AF-B936-4B68-A863-2834E9426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8CF1D-936B-41E7-91EE-5C302A2C0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04477-AE32-45BF-85C2-249944AB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C3387-45AF-4DCC-8D34-23F916FE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22CF2-4E0F-4426-AD8E-91B08CA2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21E1D-19D8-40D3-8B20-05CE6251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F379E-1456-4CBA-B2E7-73FEC2B1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14F57-B9C9-48E3-9AEB-4EC1DE5A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1CEC-EC83-421B-B7FB-197E4B7B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DD631-E641-409A-B31B-DEA49959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5433E-8D2B-4A4E-B461-D385D538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0269D-23C7-4D35-80DF-0E992334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9AFF3-0C00-4E52-8DEE-EA02E8985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12C1B-6F03-4057-8F50-4D228FBEE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0386E-4E51-4869-A84F-603CBB73D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A1CFA-470E-4531-AD45-37870129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B298B-FCE4-436B-BDFE-BE4AE41A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7B019-5756-4017-8787-13D3DA15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0BAFB-F7E3-405D-A46A-F903D3A7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E0B2-ACE4-4CF7-B90B-EB8CBCA7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0EED3-FD8D-4B46-84CD-2F67312E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EC35D-C5EB-469E-A407-4DDC43BF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54C25-1A55-4F52-B230-2A9484BF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FD492-B9F0-4114-85EA-6B28AE24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6D49C-23D9-4DB5-A0CE-0EEF9F51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75B72-F80F-496C-8CB4-3D5F9A0C5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C3A14-55D0-4559-8DF8-A1E0B1402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177B-6E04-4F57-8E77-2EEF43A9A52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C677-60F4-40BB-9B08-541D1C3517A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582C-5C2E-4CDC-9AE1-481EDA7B26C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7EC7-5BDC-4CCD-A7FE-8C93B86D1F7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20A3-A29A-4F53-99D4-A002F5B3D8F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5351-0B85-475A-A33A-1E2A751756B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0A1E-BD47-4404-867E-AD556E55C93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D40E-E17A-4363-8E22-E9BBF4C9F26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493560" y="1384200"/>
            <a:ext cx="8382240" cy="22129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Мобу « Новочеркасская СОШ»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Булдакова Л.П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15+2=17км/ч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15-2=13км/ч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)3 · 17 = 51км – расстояние по течению за три часа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) 3· 13 = 39 км/ч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5) 68 : 17 = 4 часа по тече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) 78 : 13 =6 к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7) 17-13 = 4км/час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5" descr="C:\Users\Любовь_2\Desktop\АВГУСТ - СЕНТЯБРЬ\КАРТИНКИ ПРЕЗ\img13.jpg"/>
          <p:cNvPicPr/>
          <p:nvPr/>
        </p:nvPicPr>
        <p:blipFill>
          <a:blip r:embed="rId2"/>
          <a:stretch/>
        </p:blipFill>
        <p:spPr>
          <a:xfrm>
            <a:off x="6143760" y="3857760"/>
            <a:ext cx="22860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арианты у вас на столе – приступайте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C:\Users\Любовь_2\Desktop\АВГУСТ - СЕНТЯБРЬ\КАРТИНКИ ПРЕЗ\sova.jpg"/>
          <p:cNvPicPr/>
          <p:nvPr/>
        </p:nvPicPr>
        <p:blipFill>
          <a:blip r:embed="rId2"/>
          <a:stretch/>
        </p:blipFill>
        <p:spPr>
          <a:xfrm>
            <a:off x="3571920" y="2428920"/>
            <a:ext cx="433368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№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79, 8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C:\Users\Любовь_2\Desktop\АВГУСТ - СЕНТЯБРЬ\КАРТИНКИ ПРЕЗ\304610_html_337cb6c1.jpg"/>
          <p:cNvPicPr/>
          <p:nvPr/>
        </p:nvPicPr>
        <p:blipFill>
          <a:blip r:embed="rId2"/>
          <a:stretch/>
        </p:blipFill>
        <p:spPr>
          <a:xfrm>
            <a:off x="5072040" y="1714680"/>
            <a:ext cx="278136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Заголовок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27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75" name="Picture 2" descr="C:\Users\Любовь_2\Desktop\АВГУСТ - СЕНТЯБРЬ\КАРТИНКИ ПРЕЗ\18873_html_509959cc.jpg"/>
          <p:cNvPicPr/>
          <p:nvPr/>
        </p:nvPicPr>
        <p:blipFill>
          <a:blip r:embed="rId2"/>
          <a:stretch/>
        </p:blipFill>
        <p:spPr>
          <a:xfrm>
            <a:off x="500040" y="1143000"/>
            <a:ext cx="8183520" cy="428616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571680" y="1213920"/>
            <a:ext cx="40003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№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7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Заголовок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669520" cy="1158840"/>
          </a:xfrm>
          <a:prstGeom prst="rect">
            <a:avLst/>
          </a:prstGeom>
          <a:ln w="0">
            <a:noFill/>
          </a:ln>
        </p:spPr>
      </p:pic>
      <p:sp>
        <p:nvSpPr>
          <p:cNvPr id="379" name="Прямая соединительная линия 4"/>
          <p:cNvSpPr/>
          <p:nvPr/>
        </p:nvSpPr>
        <p:spPr>
          <a:xfrm>
            <a:off x="1714680" y="2571840"/>
            <a:ext cx="5500440" cy="14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81" name="Прямая соединительная линия 7"/>
          <p:cNvSpPr/>
          <p:nvPr/>
        </p:nvSpPr>
        <p:spPr>
          <a:xfrm>
            <a:off x="3500280" y="1643040"/>
            <a:ext cx="4429440" cy="22147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TextBox 8"/>
          <p:cNvSpPr/>
          <p:nvPr/>
        </p:nvSpPr>
        <p:spPr>
          <a:xfrm>
            <a:off x="3429000" y="142884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Овал 9"/>
          <p:cNvSpPr/>
          <p:nvPr/>
        </p:nvSpPr>
        <p:spPr>
          <a:xfrm>
            <a:off x="3429000" y="1643040"/>
            <a:ext cx="71280" cy="4608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TextBox 10"/>
          <p:cNvSpPr/>
          <p:nvPr/>
        </p:nvSpPr>
        <p:spPr>
          <a:xfrm>
            <a:off x="7643880" y="3429000"/>
            <a:ext cx="5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TextBox 11"/>
          <p:cNvSpPr/>
          <p:nvPr/>
        </p:nvSpPr>
        <p:spPr>
          <a:xfrm>
            <a:off x="6779880" y="25002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Прямая соединительная линия 13"/>
          <p:cNvSpPr/>
          <p:nvPr/>
        </p:nvSpPr>
        <p:spPr>
          <a:xfrm>
            <a:off x="2000160" y="3357720"/>
            <a:ext cx="3357720" cy="2357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Прямая соединительная линия 15"/>
          <p:cNvSpPr/>
          <p:nvPr/>
        </p:nvSpPr>
        <p:spPr>
          <a:xfrm flipV="1">
            <a:off x="1143000" y="4500360"/>
            <a:ext cx="5357880" cy="1143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Овал 16"/>
          <p:cNvSpPr/>
          <p:nvPr/>
        </p:nvSpPr>
        <p:spPr>
          <a:xfrm flipH="1">
            <a:off x="1999440" y="3357720"/>
            <a:ext cx="71640" cy="7128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TextBox 17"/>
          <p:cNvSpPr/>
          <p:nvPr/>
        </p:nvSpPr>
        <p:spPr>
          <a:xfrm>
            <a:off x="2071800" y="2928960"/>
            <a:ext cx="4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TextBox 18"/>
          <p:cNvSpPr/>
          <p:nvPr/>
        </p:nvSpPr>
        <p:spPr>
          <a:xfrm>
            <a:off x="4919040" y="51436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Овал 19"/>
          <p:cNvSpPr/>
          <p:nvPr/>
        </p:nvSpPr>
        <p:spPr>
          <a:xfrm>
            <a:off x="1214280" y="5643720"/>
            <a:ext cx="46080" cy="7128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TextBox 20"/>
          <p:cNvSpPr/>
          <p:nvPr/>
        </p:nvSpPr>
        <p:spPr>
          <a:xfrm>
            <a:off x="1143000" y="571500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TextBox 21"/>
          <p:cNvSpPr/>
          <p:nvPr/>
        </p:nvSpPr>
        <p:spPr>
          <a:xfrm>
            <a:off x="6204600" y="442908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TextBox 22"/>
          <p:cNvSpPr/>
          <p:nvPr/>
        </p:nvSpPr>
        <p:spPr>
          <a:xfrm>
            <a:off x="4214880" y="4714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корость волка -  у м/мин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корость  зайца – х м/ мин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&gt; 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) 10: ( У-Х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7" name="Прямая соединительная линия 4"/>
          <p:cNvSpPr/>
          <p:nvPr/>
        </p:nvSpPr>
        <p:spPr>
          <a:xfrm flipV="1">
            <a:off x="857160" y="3571560"/>
            <a:ext cx="7215120" cy="1429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Овал 5"/>
          <p:cNvSpPr/>
          <p:nvPr/>
        </p:nvSpPr>
        <p:spPr>
          <a:xfrm flipH="1" flipV="1">
            <a:off x="811080" y="3642480"/>
            <a:ext cx="46080" cy="716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399" name="Прямая со стрелкой 7"/>
          <p:cNvCxnSpPr/>
          <p:nvPr/>
        </p:nvCxnSpPr>
        <p:spPr>
          <a:xfrm>
            <a:off x="1000080" y="4285800"/>
            <a:ext cx="1357920" cy="25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00" name="TextBox 8"/>
          <p:cNvSpPr/>
          <p:nvPr/>
        </p:nvSpPr>
        <p:spPr>
          <a:xfrm>
            <a:off x="1357200" y="400068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У м/мин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Овал 9"/>
          <p:cNvSpPr/>
          <p:nvPr/>
        </p:nvSpPr>
        <p:spPr>
          <a:xfrm>
            <a:off x="3929040" y="3643200"/>
            <a:ext cx="46080" cy="14292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402" name="Прямая со стрелкой 11"/>
          <p:cNvCxnSpPr/>
          <p:nvPr/>
        </p:nvCxnSpPr>
        <p:spPr>
          <a:xfrm flipV="1">
            <a:off x="4285800" y="3285360"/>
            <a:ext cx="1429560" cy="72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03" name="TextBox 13"/>
          <p:cNvSpPr/>
          <p:nvPr/>
        </p:nvSpPr>
        <p:spPr>
          <a:xfrm>
            <a:off x="4457160" y="30718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Х м/мин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Дуга 14"/>
          <p:cNvSpPr/>
          <p:nvPr/>
        </p:nvSpPr>
        <p:spPr>
          <a:xfrm>
            <a:off x="857160" y="3643200"/>
            <a:ext cx="46080" cy="71640"/>
          </a:xfrm>
          <a:prstGeom prst="pie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Дуга 15"/>
          <p:cNvSpPr/>
          <p:nvPr/>
        </p:nvSpPr>
        <p:spPr>
          <a:xfrm>
            <a:off x="857160" y="3714840"/>
            <a:ext cx="71640" cy="46080"/>
          </a:xfrm>
          <a:prstGeom prst="pie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Круговая стрелка 16"/>
          <p:cNvSpPr/>
          <p:nvPr/>
        </p:nvSpPr>
        <p:spPr>
          <a:xfrm>
            <a:off x="857160" y="3357720"/>
            <a:ext cx="3214800" cy="357120"/>
          </a:xfrm>
          <a:prstGeom prst="pi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TextBox 17"/>
          <p:cNvSpPr/>
          <p:nvPr/>
        </p:nvSpPr>
        <p:spPr>
          <a:xfrm>
            <a:off x="2286000" y="300024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0м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TextBox 18"/>
          <p:cNvSpPr/>
          <p:nvPr/>
        </p:nvSpPr>
        <p:spPr>
          <a:xfrm>
            <a:off x="2428920" y="3857760"/>
            <a:ext cx="60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А)( у – х )м/мин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"/>
          <p:cNvGraphicFramePr/>
          <p:nvPr/>
        </p:nvGraphicFramePr>
        <p:xfrm>
          <a:off x="357120" y="1428840"/>
          <a:ext cx="8229600" cy="46908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115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3c4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3c4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3c4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3c4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3c4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3c4a"/>
                    </a:solidFill>
                  </a:tcPr>
                </a:tc>
              </a:tr>
              <a:tr h="115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2а+3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2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1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8e9"/>
                    </a:solidFill>
                  </a:tcPr>
                </a:tc>
              </a:tr>
              <a:tr h="11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4а-2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2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3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</a:tr>
            </a:tbl>
          </a:graphicData>
        </a:graphic>
      </p:graphicFrame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10:10      1200:100      150:10    245000:10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700  ·100     82 · 1000  750 · 1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одной стопке  35 тетр, а в другой в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 раза &gt;, на 15 &gt;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нига стоит 120 руб, альбом в 2 раза дешевл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колько стоит альбом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.Построить прямую АВ; на отрезке АВ отметить  точку С, через С провести прямую с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. Прямую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K L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и отрезок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N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, пересекающиеся в точке  О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. Построить пересекающиеся прямые АВ и СД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. построить лучи  АК, АМ, АД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корость течения реки -2км/ч, собственная скорость  катера 15 км/час. Составьте выражения и найти их значени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скорость катера  при движении по воде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против движения воды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) расстояние которое пройдет катер за три часа по течению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)расстояние за три часа против течения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) время  на прохождение 68км по течению рек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5) время на прохождение 78 км при движении против течения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) на сколько скорость катера по течению больше скорости против течен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2T17:09:18Z</dcterms:created>
  <dc:creator>Любовь</dc:creator>
  <dc:description/>
  <dc:language>en-US</dc:language>
  <cp:lastModifiedBy>Любовь</cp:lastModifiedBy>
  <dcterms:modified xsi:type="dcterms:W3CDTF">2015-09-22T18:40:22Z</dcterms:modified>
  <cp:revision>2</cp:revision>
  <dc:subject/>
  <dc:title>Урок математики в 5классе по теме « Прямая, отрезок и луч»</dc:title>
</cp:coreProperties>
</file>